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8D29-2768-4C97-9DCD-25C2493F4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2B36-962C-42F9-9464-690A01E22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CC51-D945-42E3-8D5D-640D1F182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2C52-A3C6-406B-B82F-76F220113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46567-AC5C-4B00-909A-40E41C8C0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B3B4-1F5A-4188-9E68-1884B9991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2BB2E-E8E3-4913-8C5C-6D242E4D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5210E-2825-4731-9F95-9D26500FE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EB3D7-729B-44D2-8ACB-46DCF1BD8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71884-7158-4EF3-9F96-9663CD86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E9D57-7B15-4665-9B49-E528BE03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F299-8ACA-49B2-B1BA-BD9B70B77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3B960-5D85-4992-B19D-6F113E72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C5AD8-ABF1-44B7-9501-026DF220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88335-D938-46E3-A843-F7BFA8BC1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4F646-C0F1-4F79-A44F-890DA2020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E26EA-B6B5-4D3F-AE5C-C74EBE900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2B9DB-42A6-4AC7-A4E1-7FE5EBD1E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AF99C-7EDB-4491-955D-321D28509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DF2DB-197C-4BAD-984C-25E3020E0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B507A-2C18-4A66-999D-EC6B02D77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4986C-D3F3-4A7C-8793-99A859A60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9D3B-0E0E-43F2-BF90-1D2EC24D9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50463-8B37-449F-8329-06AEC2F48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CEC15-FC46-409E-BAB5-4CFCAB4C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F8E34-EA15-4024-ADE4-71113F81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28790-0F5F-46BC-9976-7CF124DD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2764E-2067-491F-B148-704D1B81E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BAC6C-63B7-4081-8820-6D3703A1C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4A1E2-D19C-406F-911E-7EE42A564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8F021-1244-4628-BAA7-9C64BE7B5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B5D75-6474-45D2-BC0A-03797ABA9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9E570-C944-4734-868F-DFBE6E55F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E477-FFFD-40FD-85DF-331EFB8A1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61121-109E-4E22-ABAE-7C06D6DF5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52C92-6E5B-497E-97FB-F7FFA7634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127DC-D5DE-4499-9C1B-BA5EC532F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613DF-8847-4088-867F-97409059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E0770-A60C-4230-9DCC-2232061A1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0532C-97B3-4DBD-96F6-E15887D4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76FE7-4BBA-4538-ABEF-E95590ADB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A9F30-9287-4F73-A494-44B1BABC9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1A87F-357C-444E-9F55-99D6B2588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54F8-4FF5-493E-B9FB-2BB24B438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CF23-82E1-45AE-B6E1-FEA5565F1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C9B1-3932-4514-A8DA-AE56BFFB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C46B-A9AA-4DB5-9ED3-B277D691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25B4-F3B0-4264-A7BE-93D75208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31DB6-1909-43B8-91F4-506ABC5D3F42}" type="slidenum">
              <a:rPr b="0" lang="en-US" sz="1200" spc="-1" strike="noStrike">
                <a:solidFill>
                  <a:srgbClr val="42424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eae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4eaef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eae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D68FE-B4F0-48A4-9434-CAAFCB900378}" type="slidenum">
              <a:rPr b="0" lang="en-US" sz="1200" spc="-1" strike="noStrike">
                <a:solidFill>
                  <a:srgbClr val="d4eae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eae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4eaef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eae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C3F49-2415-4D71-AC68-39EA5720B7E2}" type="slidenum">
              <a:rPr b="0" lang="en-US" sz="1200" spc="-1" strike="noStrike">
                <a:solidFill>
                  <a:srgbClr val="d4eae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65125-E08E-498B-BF35-1B01CF5112BE}" type="slidenum">
              <a:rPr b="0" lang="en-US" sz="1200" spc="-1" strike="noStrike">
                <a:solidFill>
                  <a:srgbClr val="42424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298440" y="1371600"/>
            <a:ext cx="8302680" cy="22734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724280" y="5257440"/>
            <a:ext cx="3587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By: Husain Baaq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ENC 1102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Kyle Stedman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2"/>
          <a:stretch/>
        </p:blipFill>
        <p:spPr>
          <a:xfrm>
            <a:off x="1066680" y="3352680"/>
            <a:ext cx="34671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Title 1" descr=""/>
          <p:cNvPicPr/>
          <p:nvPr/>
        </p:nvPicPr>
        <p:blipFill>
          <a:blip r:embed="rId1"/>
          <a:stretch/>
        </p:blipFill>
        <p:spPr>
          <a:xfrm>
            <a:off x="457200" y="658800"/>
            <a:ext cx="7851600" cy="158436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28240" y="182844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lvl="1"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roper Introduction: Things NOT to do in an introductory paragraph."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Guide to Grammar and Writing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Capital Community College Foundation. 29 Apr 2009 &lt;http://grammar.ccc.commnet.edu/GRAMMAR/intros.htm&gt;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llanca, Pat. "Ending The Essay: Conclusions."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ing Cente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1998. Harvard University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9 Apr 2009 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http://www.fas.harvard.edu/~wricntr/documents/Conclusions.html&gt;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Fleming, Grace. "The Introductory Paragraph: Start With a Great First Sentence."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onstantia"/>
              </a:rPr>
              <a:t>           </a:t>
            </a:r>
            <a:r>
              <a:rPr b="0" i="1" lang="en-US" sz="1800" spc="-1" strike="noStrike">
                <a:solidFill>
                  <a:srgbClr val="ffffff"/>
                </a:solidFill>
                <a:latin typeface="Constantia"/>
              </a:rPr>
              <a:t>About.com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. 29 Apr 2009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         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&lt;http://homeworktips.about.com/od/paperassignments/a/introsentence.htm&gt;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"How to Write a Structured Essay." </a:t>
            </a:r>
            <a:r>
              <a:rPr b="0" i="1" lang="en-US" sz="1800" spc="-1" strike="noStrike">
                <a:solidFill>
                  <a:srgbClr val="ffffff"/>
                </a:solidFill>
                <a:latin typeface="Constantia"/>
              </a:rPr>
              <a:t>EastChance.com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. 2000. 29 Apr 2009 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         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&lt;http://www.eastchance.com/howto/struct_es.asp&gt;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464646"/>
                </a:solidFill>
                <a:latin typeface="Calibri"/>
              </a:rPr>
              <a:t>Writing an Essay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5000"/>
            <a:ext cx="822960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he most important factors to consider when writing an essay are a proper introduction and conclus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hese two paragraphs are the backbone of the essa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It’s sort of like a sandwich. The introduction and conclusion symbolize the bread slice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5867280" y="4916520"/>
            <a:ext cx="259092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464646"/>
                </a:solidFill>
                <a:latin typeface="Calibri"/>
              </a:rPr>
              <a:t>The Introduction!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5000"/>
            <a:ext cx="8229600" cy="38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First impressions are  very importan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he first sentence of a paper sets the stage for a lasting opinion.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nstantia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he start of the introduction should always grab the reader’s attent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When starting the introduction, do NOT blatantly announce the purpose of the essay.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xample: In this paper, I will…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4038480" y="5943600"/>
            <a:ext cx="4648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onstantia"/>
              </a:rPr>
              <a:t>1: Quoted from Grace Fleming’s  “How to Write a Strong Introduction”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onstantia"/>
              </a:rPr>
              <a:t>2: Adapted from- Things </a:t>
            </a:r>
            <a:r>
              <a:rPr b="0" lang="en-US" sz="1200" spc="-1" strike="noStrike" u="sng">
                <a:solidFill>
                  <a:srgbClr val="424242"/>
                </a:solidFill>
                <a:uFillTx/>
                <a:latin typeface="Constantia"/>
              </a:rPr>
              <a:t>NOT</a:t>
            </a:r>
            <a:r>
              <a:rPr b="0" lang="en-US" sz="1200" spc="-1" strike="noStrike">
                <a:solidFill>
                  <a:srgbClr val="424242"/>
                </a:solidFill>
                <a:latin typeface="Constantia"/>
              </a:rPr>
              <a:t> to do in an introductory paragra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464646"/>
                </a:solidFill>
                <a:latin typeface="Calibri"/>
              </a:rPr>
              <a:t>Introduction Guidelines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5867280" y="3352680"/>
            <a:ext cx="3276720" cy="22860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 txBox="1"/>
          <p:nvPr/>
        </p:nvSpPr>
        <p:spPr>
          <a:xfrm>
            <a:off x="457200" y="1934640"/>
            <a:ext cx="6324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When writing an introduction, important concepts to keep in mind ar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Clearly state the subject being dealt wit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tate the narrow topic the paper is focusing 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nd the introduction with a clear thesis by mentioning the position being take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464646"/>
                </a:solidFill>
                <a:latin typeface="Calibri"/>
              </a:rPr>
              <a:t>The Dreaded Thesis Statement!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6868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Coming up with a proper thesis statement can be difficul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o make this process simpler follow these simple rules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nstantia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ake the thesis statement narrow, specific and clea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Do NOT promise any analysis or review on the topic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ry to find a specific argument to defen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56320">
              <a:lnSpc>
                <a:spcPct val="90000"/>
              </a:lnSpc>
              <a:spcBef>
                <a:spcPts val="524"/>
              </a:spcBef>
              <a:buClr>
                <a:srgbClr val="eb641b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nstantia"/>
              </a:rPr>
              <a:t>EXAMPLE: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56320">
              <a:lnSpc>
                <a:spcPct val="90000"/>
              </a:lnSpc>
              <a:spcBef>
                <a:spcPts val="524"/>
              </a:spcBef>
              <a:buClr>
                <a:srgbClr val="eb641b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nstantia"/>
              </a:rPr>
              <a:t>Yes!:  I will argue that the use of marijuana should be legalized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56320">
              <a:lnSpc>
                <a:spcPct val="90000"/>
              </a:lnSpc>
              <a:spcBef>
                <a:spcPts val="524"/>
              </a:spcBef>
              <a:buClr>
                <a:srgbClr val="eb641b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nstantia"/>
              </a:rPr>
              <a:t>No!: I wish to review the pros of making marijuana legal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Footer Placeholder 3"/>
          <p:cNvSpPr/>
          <p:nvPr/>
        </p:nvSpPr>
        <p:spPr>
          <a:xfrm>
            <a:off x="556272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onstantia"/>
              </a:rPr>
              <a:t>3: Quoted from “How to write a structured essa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Title 1" descr=""/>
          <p:cNvPicPr/>
          <p:nvPr/>
        </p:nvPicPr>
        <p:blipFill>
          <a:blip r:embed="rId1"/>
          <a:stretch/>
        </p:blipFill>
        <p:spPr>
          <a:xfrm>
            <a:off x="536400" y="890640"/>
            <a:ext cx="7772400" cy="15843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" descr=""/>
          <p:cNvPicPr/>
          <p:nvPr/>
        </p:nvPicPr>
        <p:blipFill>
          <a:blip r:embed="rId2"/>
          <a:stretch/>
        </p:blipFill>
        <p:spPr>
          <a:xfrm>
            <a:off x="1905120" y="2057400"/>
            <a:ext cx="5046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464646"/>
                </a:solidFill>
                <a:latin typeface="Calibri"/>
              </a:rPr>
              <a:t>Wrapping It Up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he conclusion provides the writer one last chance to persuade the read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It should contain the restated thesis and a summary of the main point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he most important thing to remember is that the conclusion should “convey a sense of completeness and closure as well as a sense of the lingering possibilities of the topic.”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nstantia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Footer Placeholder 3"/>
          <p:cNvSpPr/>
          <p:nvPr/>
        </p:nvSpPr>
        <p:spPr>
          <a:xfrm>
            <a:off x="5410080" y="617220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onstantia"/>
              </a:rPr>
              <a:t>4: Harvard’s website on Writing a Co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464646"/>
                </a:solidFill>
                <a:latin typeface="Calibri"/>
              </a:rPr>
              <a:t>A Conclusion Should NOT…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Be a simple summary of the essa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Contain an apology for your position on the argu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llow readers the chance to question your stance on the topi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Do not undercut your authority by using phrases such as: “This is just one approach..” “It seems like…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Begin with: “in conclusion,” “to conclude,” or “in summary”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nstantia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Footer Placeholder 3"/>
          <p:cNvSpPr/>
          <p:nvPr/>
        </p:nvSpPr>
        <p:spPr>
          <a:xfrm>
            <a:off x="5562720" y="624852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onstantia"/>
              </a:rPr>
              <a:t>5: Harvard's Website on Writing a Co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514440"/>
            <a:ext cx="335268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64646"/>
                </a:solidFill>
                <a:latin typeface="Calibri"/>
              </a:rPr>
              <a:t>In the end…</a:t>
            </a:r>
            <a:endParaRPr b="0" lang="en-US" sz="48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9718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Using these simple tips will help you create effective introduction and conclusion paragraphs which will make your essay flow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3962520" y="1600200"/>
            <a:ext cx="4495680" cy="46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8T23:41:18Z</dcterms:created>
  <dc:creator>Ingrid</dc:creator>
  <dc:description/>
  <dc:language>en-US</dc:language>
  <cp:lastModifiedBy>Suzanne Conti</cp:lastModifiedBy>
  <dcterms:modified xsi:type="dcterms:W3CDTF">2010-09-29T14:44:00Z</dcterms:modified>
  <cp:revision>6</cp:revision>
  <dc:subject/>
  <dc:title>Slide 1</dc:title>
</cp:coreProperties>
</file>